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5486400" cy="41148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2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2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2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2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2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2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2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2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2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2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3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3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3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3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3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3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3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3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3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4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4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4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4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4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4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5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5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5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5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5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5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6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6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6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6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6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6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7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7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7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7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7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7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7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7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7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49039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479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2482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2479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A783B-D2FF-4F02-B425-C8C278A570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02AB2-D689-4297-90BF-25A298A8B4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1371600" y="763560"/>
            <a:ext cx="5000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94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0786B-5547-4503-A8DF-C791DA8FC9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B3E37-8C8F-458F-80E7-2B753E654C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AF0EB-2303-4F6D-940D-E1632D97F6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EFD38-ED65-471E-885B-8F038FDC6C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4B491-2452-43F3-9940-7819467D14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777960" y="4772160"/>
            <a:ext cx="6092640" cy="45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AA17A-7A40-4BB7-B5D3-2D4A2AC27F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2BCE7-BE14-4708-980F-A5B0BB1D71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0BC97-10C5-4E41-838B-7C7F12C2E4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8846E-A5B6-4648-8CEC-50302A63AE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19C65-3D7C-4D61-831C-C19293F97C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3EEB7-853E-41EA-9BB5-3A53C8A618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664C3-4F5B-42F1-94E2-9E84BB4E1C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D84D7-0643-4DBC-BE01-C63309E2EA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2440" y="223344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9396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63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74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2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63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74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9440" y="125280"/>
            <a:ext cx="475776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9396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0" y="3673440"/>
            <a:ext cx="4479840" cy="26532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379440" y="3679920"/>
            <a:ext cx="2176560" cy="25884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ONE LAPTOP PER CHIL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1252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3440" indent="-10008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4325760" y="3649680"/>
            <a:ext cx="114300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9440" y="1609200"/>
            <a:ext cx="481968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One Laptop per Child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27" name="AutoShape 2"/>
          <p:cNvSpPr/>
          <p:nvPr/>
        </p:nvSpPr>
        <p:spPr>
          <a:xfrm>
            <a:off x="0" y="2819520"/>
            <a:ext cx="5486400" cy="76176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Software Develop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Ed McNierne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September 18, 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0" y="568440"/>
            <a:ext cx="5486400" cy="16732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1220040" y="1981080"/>
            <a:ext cx="30762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b3b3b3"/>
                </a:solidFill>
                <a:latin typeface="Arial"/>
              </a:rPr>
              <a:t>One Laptop per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380880" y="34920"/>
            <a:ext cx="47577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Top New Features in 8.2.0</a:t>
            </a:r>
            <a:br>
              <a:rPr sz="2800"/>
            </a:b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Graphical Control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793800" y="985680"/>
            <a:ext cx="36576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379440" y="76320"/>
            <a:ext cx="4757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New Home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3467160" cy="210024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4"/>
          <p:cNvGrpSpPr/>
          <p:nvPr/>
        </p:nvGrpSpPr>
        <p:grpSpPr>
          <a:xfrm>
            <a:off x="3745080" y="1447920"/>
            <a:ext cx="1587240" cy="1333440"/>
            <a:chOff x="3745080" y="1447920"/>
            <a:chExt cx="1587240" cy="1333440"/>
          </a:xfrm>
        </p:grpSpPr>
        <p:sp>
          <p:nvSpPr>
            <p:cNvPr id="154" name="Rectangle 5"/>
            <p:cNvSpPr/>
            <p:nvPr/>
          </p:nvSpPr>
          <p:spPr>
            <a:xfrm>
              <a:off x="3745080" y="1447920"/>
              <a:ext cx="15872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1600" bIns="21600" anchor="ctr">
              <a:noAutofit/>
            </a:bodyPr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SzPct val="45000"/>
                <a:buFont typeface="Arial"/>
                <a:buAutoNum type="arabicPeriod"/>
                <a:tabLst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arch for activiti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SzPct val="45000"/>
                <a:buFont typeface="Arial"/>
                <a:buAutoNum type="arabicPeriod"/>
                <a:tabLst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hange view mod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SzPct val="45000"/>
                <a:buFont typeface="Arial"/>
                <a:buAutoNum type="arabicPeriod"/>
                <a:tabLst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aunch Activity and add or delete from favorit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SzPct val="45000"/>
                <a:buFont typeface="Arial"/>
                <a:buAutoNum type="arabicPeriod"/>
                <a:tabLst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O icon brings up control pane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SzPct val="45000"/>
                <a:buFont typeface="Arial"/>
                <a:buAutoNum type="arabicPeriod"/>
                <a:tabLst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ctivity with the focu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79440" y="76320"/>
            <a:ext cx="4757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Longer Battery Life</a:t>
            </a:r>
            <a:br>
              <a:rPr sz="2800"/>
            </a:br>
            <a:r>
              <a:rPr b="1" lang="en-US" sz="2000" spc="-1" strike="noStrike">
                <a:solidFill>
                  <a:srgbClr val="ff8080"/>
                </a:solidFill>
                <a:latin typeface="Arial"/>
              </a:rPr>
              <a:t>Two power saving mo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rcRect l="6400" t="9600" r="7200" b="13866"/>
          <a:stretch/>
        </p:blipFill>
        <p:spPr>
          <a:xfrm>
            <a:off x="396720" y="1138320"/>
            <a:ext cx="3291120" cy="218736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4"/>
          <p:cNvGrpSpPr/>
          <p:nvPr/>
        </p:nvGrpSpPr>
        <p:grpSpPr>
          <a:xfrm>
            <a:off x="3897360" y="1219320"/>
            <a:ext cx="1587600" cy="1333440"/>
            <a:chOff x="3897360" y="1219320"/>
            <a:chExt cx="1587600" cy="1333440"/>
          </a:xfrm>
        </p:grpSpPr>
        <p:sp>
          <p:nvSpPr>
            <p:cNvPr id="158" name="Rectangle 5"/>
            <p:cNvSpPr/>
            <p:nvPr/>
          </p:nvSpPr>
          <p:spPr>
            <a:xfrm>
              <a:off x="3897360" y="1219320"/>
              <a:ext cx="158760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1600" bIns="21600" anchor="ctr">
              <a:noAutofit/>
            </a:bodyPr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SzPct val="45000"/>
                <a:buFont typeface="Arial"/>
                <a:buAutoNum type="arabicPeriod"/>
                <a:tabLst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leep mode dims screen and slows CPU on id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SzPct val="45000"/>
                <a:buFont typeface="Arial"/>
                <a:buAutoNum type="arabicPeriod"/>
                <a:tabLst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reme mode does the same and shuts off wireless radi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379440" y="76320"/>
            <a:ext cx="4757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Software Rel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80880" y="1828800"/>
            <a:ext cx="4648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06360" indent="-271440">
              <a:lnSpc>
                <a:spcPct val="9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.0 – New languages, Activity updater, Backup to XS, Longer battery lif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edora standard desktop to complement this relea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14520" indent="-271440">
              <a:lnSpc>
                <a:spcPct val="9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ora desktop available this f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6360" indent="-271440">
              <a:lnSpc>
                <a:spcPct val="9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1.0 – Focus on Reliability, Deployability and Collabo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ndows XP dual-boot to complement this relea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6360" indent="-271440">
              <a:lnSpc>
                <a:spcPct val="98000"/>
              </a:lnSpc>
              <a:spcAft>
                <a:spcPts val="108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Dates and feature sets of future releases subject to chang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4"/>
          <p:cNvSpPr/>
          <p:nvPr/>
        </p:nvSpPr>
        <p:spPr>
          <a:xfrm>
            <a:off x="309600" y="1066680"/>
            <a:ext cx="4948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312840" y="990720"/>
            <a:ext cx="14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6"/>
          <p:cNvSpPr/>
          <p:nvPr/>
        </p:nvSpPr>
        <p:spPr>
          <a:xfrm>
            <a:off x="5268960" y="990720"/>
            <a:ext cx="14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7"/>
          <p:cNvSpPr/>
          <p:nvPr/>
        </p:nvSpPr>
        <p:spPr>
          <a:xfrm>
            <a:off x="1492200" y="990720"/>
            <a:ext cx="18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3316320" y="990720"/>
            <a:ext cx="14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84240" y="762120"/>
            <a:ext cx="7617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8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v 200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1173240" y="762120"/>
            <a:ext cx="7617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8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2979720" y="762120"/>
            <a:ext cx="7621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8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4724280" y="762120"/>
            <a:ext cx="7621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8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 20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3"/>
          <p:cNvSpPr/>
          <p:nvPr/>
        </p:nvSpPr>
        <p:spPr>
          <a:xfrm>
            <a:off x="2741760" y="106668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4"/>
          <p:cNvSpPr/>
          <p:nvPr/>
        </p:nvSpPr>
        <p:spPr>
          <a:xfrm>
            <a:off x="855720" y="106668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60200" y="15238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ip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1247760" y="15238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1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312840" y="12193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1752480" y="12193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.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>
            <a:off x="1509840" y="12193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>
            <a:off x="3662280" y="1066680"/>
            <a:ext cx="18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23"/>
          <p:cNvSpPr/>
          <p:nvPr/>
        </p:nvSpPr>
        <p:spPr>
          <a:xfrm>
            <a:off x="2114640" y="106668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24"/>
          <p:cNvSpPr/>
          <p:nvPr/>
        </p:nvSpPr>
        <p:spPr>
          <a:xfrm>
            <a:off x="3970440" y="106668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3429000" y="15238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2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26"/>
          <p:cNvSpPr/>
          <p:nvPr/>
        </p:nvSpPr>
        <p:spPr>
          <a:xfrm>
            <a:off x="3657600" y="1295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7"/>
          <p:cNvSpPr/>
          <p:nvPr/>
        </p:nvSpPr>
        <p:spPr>
          <a:xfrm>
            <a:off x="4900680" y="14526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1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28"/>
          <p:cNvSpPr/>
          <p:nvPr/>
        </p:nvSpPr>
        <p:spPr>
          <a:xfrm>
            <a:off x="5268960" y="12193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9"/>
          <p:cNvSpPr/>
          <p:nvPr/>
        </p:nvSpPr>
        <p:spPr>
          <a:xfrm>
            <a:off x="4038480" y="12193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.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30"/>
          <p:cNvSpPr/>
          <p:nvPr/>
        </p:nvSpPr>
        <p:spPr>
          <a:xfrm>
            <a:off x="1158840" y="1066680"/>
            <a:ext cx="18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31"/>
          <p:cNvSpPr/>
          <p:nvPr/>
        </p:nvSpPr>
        <p:spPr>
          <a:xfrm>
            <a:off x="1806480" y="1066680"/>
            <a:ext cx="18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32"/>
          <p:cNvSpPr/>
          <p:nvPr/>
        </p:nvSpPr>
        <p:spPr>
          <a:xfrm>
            <a:off x="541440" y="1071720"/>
            <a:ext cx="1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33"/>
          <p:cNvSpPr/>
          <p:nvPr/>
        </p:nvSpPr>
        <p:spPr>
          <a:xfrm>
            <a:off x="2417760" y="106668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34"/>
          <p:cNvSpPr/>
          <p:nvPr/>
        </p:nvSpPr>
        <p:spPr>
          <a:xfrm>
            <a:off x="3030480" y="1066680"/>
            <a:ext cx="18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35"/>
          <p:cNvSpPr/>
          <p:nvPr/>
        </p:nvSpPr>
        <p:spPr>
          <a:xfrm>
            <a:off x="4294080" y="1066680"/>
            <a:ext cx="18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36"/>
          <p:cNvSpPr/>
          <p:nvPr/>
        </p:nvSpPr>
        <p:spPr>
          <a:xfrm>
            <a:off x="4583160" y="106668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37"/>
          <p:cNvSpPr/>
          <p:nvPr/>
        </p:nvSpPr>
        <p:spPr>
          <a:xfrm>
            <a:off x="4906800" y="1066680"/>
            <a:ext cx="18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38"/>
          <p:cNvSpPr/>
          <p:nvPr/>
        </p:nvSpPr>
        <p:spPr>
          <a:xfrm>
            <a:off x="2286000" y="12193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.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39"/>
          <p:cNvSpPr/>
          <p:nvPr/>
        </p:nvSpPr>
        <p:spPr>
          <a:xfrm>
            <a:off x="2895480" y="12193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.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Software Technologie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47642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technologies in one lapto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h Networking/Collab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gar User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tore and Jou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oo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F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4"/>
          <p:cNvGrpSpPr/>
          <p:nvPr/>
        </p:nvGrpSpPr>
        <p:grpSpPr>
          <a:xfrm>
            <a:off x="3429000" y="1752480"/>
            <a:ext cx="1752120" cy="1752480"/>
            <a:chOff x="3429000" y="1752480"/>
            <a:chExt cx="1752120" cy="1752480"/>
          </a:xfrm>
        </p:grpSpPr>
        <p:pic>
          <p:nvPicPr>
            <p:cNvPr id="133" name="Picture 5" descr=""/>
            <p:cNvPicPr/>
            <p:nvPr/>
          </p:nvPicPr>
          <p:blipFill>
            <a:blip r:embed="rId1"/>
            <a:stretch/>
          </p:blipFill>
          <p:spPr>
            <a:xfrm>
              <a:off x="3429000" y="1752480"/>
              <a:ext cx="175212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6"/>
            <p:cNvSpPr/>
            <p:nvPr/>
          </p:nvSpPr>
          <p:spPr>
            <a:xfrm>
              <a:off x="4743000" y="2550960"/>
              <a:ext cx="438120" cy="45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Power Managemen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76424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ware ready for suspend/res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 for sleep on lid close or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level support for more aggressive susp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out 4 hours of battery life during normal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14 hours of battery life in sleep mo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 management for suspend/res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ook mode to &gt;10 h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ssive CPU suspe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Mesh and Collaboration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764240" cy="26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2.11b/g via infrastructure access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all groups of simple mesh, WiFi school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laboration in small group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802.11s evolution, enhanced scaling, develop robust middleware/A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ner cases - many students start up at o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sharing at Activity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User Interfac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764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s: Home, Group, Neighborhood,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me: People, Places, Objects,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asize collaboration and simpl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ite or share activities with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 performance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sh out the concept of Groups or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for other desktops (KDE, Gnome, Window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Datastore / Journal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764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cs are created; by wh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y use; auto s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nological list of activities/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O to XS backup for disaster reco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ing, integration with standard file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k file transfers, transfers outside of the Jou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sioning, XO to XS backup general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Security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47642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theft of the delivery chain (one time activ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ed software (both OFW and 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ies isolated from file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lease management (time-limi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isolation from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signing, Identity authent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XS School Server Softwar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764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ora-based OS; standard services (DHCP, DNS, Apache, uplin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cache, local content and upgrades for X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ce server for collab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stration and backup for X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 for XO backup/restore to X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le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management of X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ing, Sca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Broader OS Suppor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764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ot Sugar or alternative opera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D card or USB boot support buil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 users OS options beyond standard Sug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current OLPC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ora standard desktop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XP support on future hard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ty members working on Ubuntu, Debian, and other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inforces XO position as general-purpose, versatile hardware 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4:40:08Z</dcterms:created>
  <dc:creator/>
  <dc:description>Camrbridge, MA
April 23-27, 2007
</dc:description>
  <dc:language>en-US</dc:language>
  <cp:lastModifiedBy> </cp:lastModifiedBy>
  <cp:lastPrinted>2008-09-10T16:24:23Z</cp:lastPrinted>
  <dcterms:modified xsi:type="dcterms:W3CDTF">2008-09-18T17:56:39Z</dcterms:modified>
  <cp:revision>80</cp:revision>
  <dc:subject/>
  <dc:title>One Laptop per Child</dc:title>
</cp:coreProperties>
</file>